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D57-C1A7-45B8-85F5-1CCF7AE8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660-FF62-4D79-AC94-9D241610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C8A-FA3D-40A5-B4FD-AA447289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45C-935D-4BE4-8DCB-ADCBBD1E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D16-91A5-4257-8B03-8B7F4B8E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E80-54E7-4488-BFA9-4075B2CF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2B8-F729-4FB6-ADE9-3EC1C7F6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037-1420-4CD7-8E13-8C7A49DA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9B84-958F-4A07-8ABE-CA5BF771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65A-C42C-4680-A66F-DA7A9CFB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170-44BA-4751-8B0F-C6ABE03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495-3E51-465F-9596-046482DF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434A-9E68-405E-B7F7-84DA7D85E68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Comic Sans MS"/>
              </a:rPr>
              <a:t>OFFICINAL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3:31Z</dcterms:created>
  <dc:creator>Stefano Bona</dc:creator>
  <dc:description/>
  <dc:language>en-US</dc:language>
  <cp:lastModifiedBy>UNO</cp:lastModifiedBy>
  <dcterms:modified xsi:type="dcterms:W3CDTF">2012-05-05T17:51:48Z</dcterms:modified>
  <cp:revision>19</cp:revision>
  <dc:subject/>
  <dc:title>Diapositiva 1</dc:title>
</cp:coreProperties>
</file>