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35FC-3EA0-4BE5-ADE4-75D75A39A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7043-5F34-4193-B58B-06A73F00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8AAD-64A6-44A5-8CB4-647EDF7F3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92E2-EC50-4F60-A1C4-F35276D13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906B-4B78-4C94-B2B6-25376B1F0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443A-2381-4929-881B-C59E4843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98E5-9A9B-41FA-B842-40A85FD5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9428-1CC6-49F5-9A0C-3070E1D4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A366-F436-487F-8A04-C7F533A3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FAFC-D23F-4458-A982-A777B2B2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9A97-F840-4656-BC61-3709286A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8408-88B8-4502-A7C3-CC4739F7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19DCE-0306-49E7-8EE8-7B905322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7111-A078-45A4-8E59-EE1EAC89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0B14-3565-4221-AAC8-2E074707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370A1-FEFD-4E74-A3E6-C9E3ACDB5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2121-9492-4734-ACF5-E35220830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4C2E-DA85-44E7-B4DC-E7FE4259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ABB1-7D3A-45CD-A1FE-BDF7469B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A08C-3E4E-4982-8198-DDF56F6C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D728-632C-460A-8E8A-54762F9E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18A2-2F05-4F1E-80B8-037FD038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EED2-E135-4E00-ACBE-A46F9F8C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BD22-7A4B-4CA9-86DF-D9E09AB3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33D5-113C-4F20-9555-5BCA4DBEB03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FC0E-5D17-459B-A595-CC226CC0666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2° Modulo  </a:t>
            </a:r>
            <a:br>
              <a:rPr sz="5400"/>
            </a:b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Produzioni Vegetali 2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rogramm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ereali microterm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ereali macroterm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guminose da granell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leagino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ccarife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fficinal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ubero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taggi da fogl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modor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1T06:03:54Z</dcterms:created>
  <dc:creator>UNO</dc:creator>
  <dc:description/>
  <dc:language>en-US</dc:language>
  <cp:lastModifiedBy>UNO</cp:lastModifiedBy>
  <dcterms:modified xsi:type="dcterms:W3CDTF">2012-05-11T06:05:36Z</dcterms:modified>
  <cp:revision>1</cp:revision>
  <dc:subject/>
  <dc:title>2° Modulo   Produzioni Vegetali 2</dc:title>
</cp:coreProperties>
</file>