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DC1-C530-462C-8161-1AD03A3C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144-1934-47AA-A317-41865340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799-7C5D-4D34-9D18-C1FE7E72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518-046B-4499-A7D6-B68F7CEC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250-C2DD-41CD-AD97-1946E516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B2E-7A3C-4B38-86AB-848DB979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5BB-A569-46BD-A52C-427BDE5B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BE7-B624-4026-9D06-1F281343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C9F-92E3-4505-A097-7B7BB5D7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22B-4805-4063-9DF3-404FDF4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D05-D6B3-489E-9595-061F270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F17-B9F4-4BF8-ABA8-583A1843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3F9-FB08-4741-BFFA-C5FF2DBB1FD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Comic Sans MS"/>
              </a:rPr>
              <a:t>OFFICINALI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0:23:31Z</dcterms:created>
  <dc:creator>Stefano Bona</dc:creator>
  <dc:description/>
  <dc:language>en-US</dc:language>
  <cp:lastModifiedBy>UNO</cp:lastModifiedBy>
  <dcterms:modified xsi:type="dcterms:W3CDTF">2012-05-05T17:51:48Z</dcterms:modified>
  <cp:revision>19</cp:revision>
  <dc:subject/>
  <dc:title>Diapositiva 1</dc:title>
</cp:coreProperties>
</file>