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A09-87E4-42B9-A162-14133254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F18-DEA5-450C-9FE3-774BC335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644D-0C6D-48E8-ABB9-058018D6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B20-AAF5-4BFE-9E23-4A77564A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46CF-F8B2-4B9F-9938-FFB47FA6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CA5E-8F7A-4548-9944-4BDF53E4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D661-4822-4B01-AFCD-8DC12193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FC94-154C-4ABB-9504-DBC77671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190A-4DB2-4CBF-B06E-700C841D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E7DA-18F9-4AB3-8DC0-3C88E17E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CD0E-A75E-47C2-9310-064FAF8F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4B0-1C63-49EF-B88E-59E917B8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11BB-6432-455A-AAA2-AA913B9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934E-E01F-40C4-AE86-1F68B0DD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D23B-0AB3-4A0F-A77F-21B15D76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9999-A0EE-4949-B010-18E5AF8D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946E-F319-4BE8-842F-E0DF9F06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40F-4FCA-4272-80CB-284FD390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431-C149-4C9C-A14C-555E241F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C79-0C37-4AA7-83D0-6F728B1E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612-2334-499D-9ACD-1CA02C0B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D4F-20AF-429A-AE47-0335EC58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2DD-8D92-4E26-8FBF-8E2FB13D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AD8-A943-45DC-8E43-77F5774F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28FF-983E-4054-9AD0-350A98BED9B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397C-4815-4F9F-AAA4-65AFDA1FE3F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2° Modulo  </a:t>
            </a:r>
            <a:br>
              <a:rPr sz="5400"/>
            </a:b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Produzioni Vegetali 2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gramm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eali microter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eali macroter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guminose da granell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leagin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ccarife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ficina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uber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taggi da fogl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modo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6:03:54Z</dcterms:created>
  <dc:creator>UNO</dc:creator>
  <dc:description/>
  <dc:language>en-US</dc:language>
  <cp:lastModifiedBy>UNO</cp:lastModifiedBy>
  <dcterms:modified xsi:type="dcterms:W3CDTF">2012-05-11T06:05:36Z</dcterms:modified>
  <cp:revision>1</cp:revision>
  <dc:subject/>
  <dc:title>2° Modulo   Produzioni Vegetali 2</dc:title>
</cp:coreProperties>
</file>