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137-0B9E-438F-A7C3-CD76759B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B72-4FBD-423B-9C5F-D36B3288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785-6AB0-496B-B059-996AB8D9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723-D565-4766-A805-797EE680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A818-B258-4BD5-B053-2E48BA74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1B0E-4BD1-4A14-BA26-896EED4B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9F34-E58F-42B2-8AD3-972F694F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120-4FCA-4A51-BCD9-A8824DD4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F2FA-DD7A-4026-862A-E69C6747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DF3A-8315-44CA-8A9C-0ED1520D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B235-6798-4706-8ACD-E6DDC90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362-5107-418A-9CC3-89A14D5B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650-D6F8-4337-9676-8A46238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E840-32FF-4FCF-80EE-00BFF2D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B29-4799-4085-B0FE-860B5FB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649D-EA62-4771-A743-4466442F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930B-2AA4-450F-B43C-D0495C98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87A-51FD-4CF5-A911-9C072D31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450-4D81-4E19-9619-FDBF8BF4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63B7-5AEE-45EF-898A-DE80B49A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0A6-352C-4771-9F9F-DA335C32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962-ED8A-40B8-843A-337A393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89D-BAF7-45E3-87B0-181CC2D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6D8-9A4A-4A1F-BF47-68A3DA2C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4947-CE23-4BF9-9B9E-9EC3FEC765C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0B0E-18CB-4C8C-84FA-0B29AF0748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° Modulo  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oduzioni Vegetali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i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a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uminose da granel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eagin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arif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ic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be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taggi da fogl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modo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03:54Z</dcterms:created>
  <dc:creator>UNO</dc:creator>
  <dc:description/>
  <dc:language>en-US</dc:language>
  <cp:lastModifiedBy>UNO</cp:lastModifiedBy>
  <dcterms:modified xsi:type="dcterms:W3CDTF">2012-05-11T06:05:36Z</dcterms:modified>
  <cp:revision>1</cp:revision>
  <dc:subject/>
  <dc:title>2° Modulo   Produzioni Vegetali 2</dc:title>
</cp:coreProperties>
</file>