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A731-60B8-4B2F-B96A-72FB444F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93D4-9EBF-46E5-B99F-4220C23D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49A4-745C-4BF5-BBBF-A2167C4C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E3CC-D162-4DD0-8F21-FA7BDAFA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C48E-98B2-4E96-9809-BC70FDF7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7C2B-639B-4DB0-83F1-B6035636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44FB-1389-4979-AD27-F9084D5B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60D6-0250-46F6-819B-0023A3F3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7198-E3F5-4003-9EB6-31E5D362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5FDF-D25F-4D72-B829-C1FD244C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4A5C-0D99-442A-B9FA-125B22A5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ED11-55F5-4F2D-A814-F6F662A9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8F68-B3E2-4D27-B095-77555B573DD0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ffff"/>
                </a:solidFill>
                <a:latin typeface="Comic Sans MS"/>
              </a:rPr>
              <a:t>OFFICINALI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10:23:31Z</dcterms:created>
  <dc:creator>Stefano Bona</dc:creator>
  <dc:description/>
  <dc:language>en-US</dc:language>
  <cp:lastModifiedBy>UNO</cp:lastModifiedBy>
  <dcterms:modified xsi:type="dcterms:W3CDTF">2012-05-05T17:51:48Z</dcterms:modified>
  <cp:revision>19</cp:revision>
  <dc:subject/>
  <dc:title>Diapositiva 1</dc:title>
</cp:coreProperties>
</file>