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F78-FF6F-4103-9B89-0F4465DF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B9B-9F4B-41EA-B63D-FF00ED74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DDE-36D0-4DC4-83F6-9CA59855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225-8255-4B5A-B78F-AB5D1875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50F6-1C09-4C87-A498-9E430E0E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CF7B-38EB-4528-A7FD-8B4D8F82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1C60-C786-425A-9C34-578A5D06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570F-695D-4CB6-993B-42B2C06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EA41-F0C4-4216-BBAE-496E9267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3D02-5F78-43BB-8DC5-DEC5D1D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05A4-8FBC-4D4D-9B8C-27B8BC32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9AA-0388-4158-81F1-E1495BF1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8D84-7B12-4089-9466-020D855F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CCD3-3802-43DB-BA6C-1E79C66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16E2-9FA8-4522-A79B-3F5AEF5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8B52-F99D-4536-8D5A-32C95EC3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D832-733E-434D-84FD-00BBCCB9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6DB-91B4-427E-8BF4-3CEE613A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E60-32E6-4E23-84C5-9AE1A17B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190-2F21-4286-99F0-7FBCC963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27A-5BF5-4B9A-A159-27CA8EB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EB5-D4E8-4300-BBF2-2E3322FA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83C-1564-4D0C-8CC4-6F410332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2E9-9EB6-42A1-974A-EC66332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9E5A-64A4-4964-A62A-865564AF15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EA4D-9430-410B-9BDF-B8972216AA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2° Modulo  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roduzioni Vegetali 2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gramm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i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a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uminose da granel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eagin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ccarif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ficin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ber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taggi da fogl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modo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6:03:54Z</dcterms:created>
  <dc:creator>UNO</dc:creator>
  <dc:description/>
  <dc:language>en-US</dc:language>
  <cp:lastModifiedBy>UNO</cp:lastModifiedBy>
  <dcterms:modified xsi:type="dcterms:W3CDTF">2012-05-11T06:05:36Z</dcterms:modified>
  <cp:revision>1</cp:revision>
  <dc:subject/>
  <dc:title>2° Modulo   Produzioni Vegetali 2</dc:title>
</cp:coreProperties>
</file>