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DF1D-2695-40DA-85FF-ADF3E91C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A710-41F6-4B59-988B-8E08C1CA8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1853-41B0-430D-A533-3B8CB085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484B-0D0F-4680-8DF2-8998D36B0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64C9-6A85-46F9-956A-7A2E45A9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9571-12BA-4B84-BEF1-1D636A8D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D285-E40E-42BF-9B28-7691EE71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F95F-B837-4918-81DA-D629A8A5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B3BF-A183-425F-92F2-7725410E8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A354F-E159-45D3-A9FB-A39CB056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D73E4-50E4-4AE4-828A-3E9F8DD7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A7F6-2C8C-4362-BA2D-C1EC1198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30C4-8652-4DAF-B10F-3E88F81F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6390-2B27-4235-B35C-2C145E58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C6B1-04DE-49BA-806B-EA74F5D8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144EE-3514-45D3-98BA-F124C377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D6F0-98C8-4D82-8C66-8377DAB41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4133-231C-407D-A464-ACCE7E80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3124-DF52-488A-A07A-E1C49FA3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1F61-80B9-4684-8F64-581B428FD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5394-EAB6-42B0-AB16-A87E43F2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929-9A0C-4225-98C3-340B864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7DB-29E3-4A37-861B-367F533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BEF-EA3F-4786-81C3-73D77E6F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850E-239E-4DC4-8624-AC3CD466538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D2E-C456-402D-9C51-D3CB53CE7C4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2° Modulo  </a:t>
            </a:r>
            <a:br>
              <a:rPr sz="5400"/>
            </a:b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Produzioni Vegetali 2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ogramm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i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ereali macroterm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guminose da granell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leagin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ccarife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fficinal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uber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rtaggi da fogl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modor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06:03:54Z</dcterms:created>
  <dc:creator>UNO</dc:creator>
  <dc:description/>
  <dc:language>en-US</dc:language>
  <cp:lastModifiedBy>UNO</cp:lastModifiedBy>
  <dcterms:modified xsi:type="dcterms:W3CDTF">2012-05-11T06:05:36Z</dcterms:modified>
  <cp:revision>1</cp:revision>
  <dc:subject/>
  <dc:title>2° Modulo   Produzioni Vegetali 2</dc:title>
</cp:coreProperties>
</file>